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6973888" cy="10109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9974B-7B14-47E4-A87B-E71ECE995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4FB52-1676-4BDF-8875-8991915BE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901103-BA00-43CD-99A1-4B7E438796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D6C5ED-CEE4-4A54-BF30-A7B62B8322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3361C9-4600-4FD7-AD5F-6B578B476C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EA35F7-92FE-43C1-8984-A78190CF36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4B7502-5028-404D-914F-AE5E41503E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39B50F-BC92-4C5D-880D-435A4C91E3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72651F-4BB7-406C-8BAA-8EA2D5263E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C14B87-7315-4D83-86D5-DB1B0D4597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6AB7BC-A0AE-4129-9774-5D574CD714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E72129-7B06-4AD0-9F26-17E5CCF7AC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8537F-F6BF-425F-BB07-DEB563296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CC79A0-EA5A-486E-B010-BB531DB5FC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33C766-AFB7-40C8-BF03-F4DEC00E28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F0DAD1-38C2-4B9F-9ED0-56494EEE23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A973BF-BF5E-4510-8DE3-6A3C996EE2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1AE844-D6D0-438A-AA53-BAB6C86D32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B28752-250C-45E1-A62C-129E5C8B1A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257274-C92C-40E3-85D6-5408DC8649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3292BA-6092-4925-A127-310CC005A5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1F13D1-089B-4E29-A312-E087F238A3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0A65926-0F5F-4E16-9A4D-353FB08982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45308-86D8-4F57-B42E-6299C5502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7B03313-DE5E-47F4-A1E3-CE1F0369E9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8C2AB2B-7D22-4F8E-B9FF-396C2EEE03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6F2621-BBFE-41F6-B9A3-5DCFB932F0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369697-226F-4589-9D14-79765316BF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BE5FAF-C78B-4ABC-BAB4-7F1E56D26D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36875F-CC25-47A4-9BE5-C36B2C7924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F9D3EE-E88D-47AD-AE97-5BE2795938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E95942-A28F-41AF-A6CE-3768605BE0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F70DD1-A5C3-4070-939C-0CDD4DCB97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CF8BB8-0A3B-4D82-8D0A-81F453BF0F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6C68DA-3E45-490E-A249-FDD8BFEAB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9AE54D-B225-4163-AF84-5B4AB0935D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B57AC3-FD35-4B31-88D9-FC9182CC39D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DCE728B-1B5F-4B95-9F8C-BEC16645FA1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C3F0D26-67DB-4944-80AA-5EDC70BC712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BAFC76-513E-468C-AE47-1702494126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16D8B8-5346-4556-A821-E959933A56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98F7F8-C8EA-45CC-9564-3A62A3DA4F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ADB606-5C8B-408B-9D70-7C5CA2BD25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5FF9ED-3575-41A9-B67F-B9DBB48DBF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D1A865-F2C3-4899-B5DE-7B41596F28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C4669-2C9B-45AF-98ED-4D20ED978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DA10D1-BA3E-427A-AD65-01A3E0355F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4DF608-E2E8-4620-8930-8F2A9913A4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C88976-1918-40C1-913E-AE97EF2992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1FA9006-5ABF-4274-8068-CD9002BD696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3623E2B-0DEC-454E-9EF5-D743686013F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EC2C1BD-91B3-4D5D-8F99-5FFFA12653C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D4D9D33-0D32-46EB-A316-6C8C707D40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3"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FC975C-864D-4BDC-B3B1-2FF534008D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232721-BBE3-4314-AC90-0A55A089445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122F46-5FA5-48F7-89F7-83045E489C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00D2B-1C69-4BFF-8B7D-016307A0F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C938990-342A-4C08-80A6-71049C5046B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EC76CC-8860-40D2-8523-0177C8F5EC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481059-3E0A-4027-B312-849619AE7C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CCD41A-08B6-4B0E-A10D-C0DE1102BF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3E25FC-AEB2-4334-BE27-5952E4076A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A0D5487-DED7-47AC-90C5-E3D705CF0B2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0"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18EBA6F-44B5-4D37-8C71-7C7B491521B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C11CC35-3A09-4FB8-904A-FF9390CFC6A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2"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B852B5F-3E47-4CDA-8083-BB4FE93B14D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4"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3637F10-F540-42AF-A4D7-2CB375F04CC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378D1-A494-49E0-956B-AD77B0021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6A934D3-0CC5-454A-9A0B-0A3364F20A0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276713-9ABF-47E2-8F23-5E4978EA7CC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9CE2DC-C916-49C4-98C9-0F965E47680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E2A547-9AC2-4EDF-BAF6-271DA508E5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D4C0F8-772F-4DA1-BCE7-AF1883EB9E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AAE977-C2D5-4F3C-BFE0-E9F8ED3536A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3"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50CD548-F57C-44BA-8A32-078D65347ED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8148382-C4D2-4F6D-A4E6-061017CF449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1"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60B5F7B-1972-48BD-8EA9-4266BEC42C5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BD1D1-5CB0-44EE-98B5-9649200D6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96201-BE27-48CE-8499-DAC96F68E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5B134-16BD-481F-B3D7-57F018039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4D68B-6B67-4726-B285-45E8EF580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E6ED7-6BFE-41C6-BE6A-0C2D6B1CA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893AF-9910-4065-9C3C-8A1EB37A8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F58BD-8FDA-4D03-93EF-17306A5FD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8B68B-C300-4359-80F9-F06D671749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C7DC2-D564-48AE-82EC-DA069532B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8CCC1D-6264-47C1-B977-DC742C7D65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4DA1DE-92D8-4AD1-B832-4DABF6280E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7C5675-ECE1-45FC-9D33-51FBFCB932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9E2344-EA3E-467C-8569-C19AFDB3CE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7467A9-7AD5-4DAB-A0C0-B689F31DFA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D8298-0B9E-436D-896B-35D597F3A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FD704-2FD1-4F5C-9681-8357F6E2A0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CA894A-FB18-4272-A77F-B3357C3A1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9D2FB-F0FB-4834-8ABA-800825AA7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677302-9219-49D2-BD4B-6593091FE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60539C-7B7A-43EC-ACBA-4ABDC67AA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BAC513-1E90-4199-B09B-179CDD732B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9F4F9C-BA5B-4787-9F43-C35FA79664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B54186-D61E-4CFB-803D-EEFDC3A637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BE765D-1789-4E97-A07E-90CE72E919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8D56A2-0CFA-48BE-A8D8-97D3257A65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CEE6E-FD79-4ABB-A092-41C85521A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6D65E7-24E1-4EC6-A6D4-568CE8A5D7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C86C6C-4590-4A0B-B409-EACE54CB6B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8F8FDB-2A76-487D-8FC0-2C9C8A7895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A5C1A-4D25-4007-AC0A-8997F94CD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E67558-E220-4505-9C7E-E50A487E3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53AE8-F3C0-48A1-8850-3F65891ED9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E40804-7F00-4493-B693-D1CC544714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C1B332-2215-4CD2-B7D4-D570750C86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D28414-7867-4279-A135-DFC2C1954C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B07806-8006-4308-8E14-25F39AF969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4EF8D-747D-41EA-A7E0-3BB3C9D32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EF1A7A-BC6A-4191-B58C-3035543947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E16A74-A9E0-46CD-8BD3-A43DFD0756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44B1A5-DAD9-42FB-AFFB-6B858A0AA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0BBF83-6A61-4821-88AC-E4D023257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2FCA2E-F517-4F54-BD23-D9AD32AF37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52E2C-D819-4432-B0A6-2DC9A03A5C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489257-BCFC-4F0A-B85B-FBE871253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B05ADB-8014-4A12-AB0D-B688F031F7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311FF5-827D-435A-914B-2E7D9B148C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B2F424-9BC1-4C5B-9E7C-263FAD9ECA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73411-AACB-41D0-A196-50500B9E6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A939A7-9C11-41D4-B02D-848F2ED7D3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D26DBD-F8C6-4FA1-8B16-FA97019664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7E32A2-A3BF-4FBB-8BF3-D3C84238D8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6153F5-A8BA-4DF7-A511-6936E73EE0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3B9BFF-05C7-4BDE-B0CC-C7D72439BE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4F5A4A-7FF1-4F6B-AD36-97AEAAA288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F9EA89-F8EF-4632-89FC-8E7A20B1CF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3B95A7-4743-4334-B76D-3C53C8DF98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369C4D-8EB8-4C1D-A254-DE61EC00B5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FA2A09-1321-45A7-A852-EF3B2C5EF5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D2E28-920E-452B-B7F0-BE8794B91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365303-156E-476B-9876-2ABDFD9B41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9F03C8-D6C2-4273-894F-B6376017DF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046ADF-1461-4D0A-9740-0D9E064CE5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7DF904-66FF-464D-BB5C-CF27A782E4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98323A-0B41-4A7D-98E2-281413BDAE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DC89BE-A203-48DA-9E94-B26AEC68A3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DDBCE5-996C-405F-A180-BFE6191400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4019D7-524A-40DD-990C-32C4BC528E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DA3F5A-7452-4B76-8972-A989D35D68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48B569-7330-43C8-92C9-3268967F4B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2281D-6DBF-44C3-970F-0749BCB4C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1AF617-E59F-4699-87B9-48CF5EC2C7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99E95B-6551-4D5A-8324-3007512BF5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0842BA-2488-4EA0-BEA8-CE8FA4D4E4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50E0AA-742D-43B4-A1D0-8BC218C84F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515D82-6715-41D1-8477-6AADDDF00D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14A79A-553F-463B-988D-A9AD1D5822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0B6F8C-9C55-4493-B2F2-A49865DB73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6DCFD2-8188-48D9-9306-03EF66AB47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EB4592-D130-49CC-B28B-503103571D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D453A1-4E5E-4F94-8626-573ED7A808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D4323-7745-4CFF-9652-7E715FC02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32AA19-4B21-4A7D-BEF9-CFD12B946B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8D21E0-51A3-4F8D-89E6-3388761C62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4E0C7D-6159-4FC0-A04D-2336F82021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12A49C-4396-4269-90CD-37A5E546FF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AFD4E5-6A8A-4751-BE09-69CFD5199D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991741-4A97-4DF2-B492-60E05E4A65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F3CC7D-42E9-4D69-93B7-70538F8870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5D6268-80A0-4FDA-8558-D317A6CFE3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B4BD16-09AE-472F-8AE4-F23CF505FE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B6FAE0-DA42-4FFB-B11C-C445CE9DC37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AutoShape 4"/>
          <p:cNvSpPr/>
          <p:nvPr/>
        </p:nvSpPr>
        <p:spPr>
          <a:xfrm>
            <a:off x="609480" y="129528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 name="Line 5"/>
          <p:cNvSpPr/>
          <p:nvPr/>
        </p:nvSpPr>
        <p:spPr>
          <a:xfrm>
            <a:off x="611280" y="6597720"/>
            <a:ext cx="792468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3EF8-1A09-421B-BD56-5F2504530805}"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73"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B10F-032A-4D8B-8BF2-D8D602F9A251}"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14"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84D7-0135-44AC-B094-9C1F7F2830CE}"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5"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6" name="PlaceHolder 3"/>
          <p:cNvSpPr>
            <a:spLocks noGrp="1"/>
          </p:cNvSpPr>
          <p:nvPr>
            <p:ph type="dt" idx="3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5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58" name="PlaceHolder 5"/>
          <p:cNvSpPr>
            <a:spLocks noGrp="1"/>
          </p:cNvSpPr>
          <p:nvPr>
            <p:ph type="sldNum" idx="36"/>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8D40-52A0-4BA4-8A17-75991D9546FC}"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96"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97" name="PlaceHolder 3"/>
          <p:cNvSpPr>
            <a:spLocks noGrp="1"/>
          </p:cNvSpPr>
          <p:nvPr>
            <p:ph type="dt" idx="3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9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99" name="PlaceHolder 5"/>
          <p:cNvSpPr>
            <a:spLocks noGrp="1"/>
          </p:cNvSpPr>
          <p:nvPr>
            <p:ph type="sldNum" idx="39"/>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FBDC-2730-463F-88F3-29E4920FDF3F}"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37"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38" name="PlaceHolder 3"/>
          <p:cNvSpPr>
            <a:spLocks noGrp="1"/>
          </p:cNvSpPr>
          <p:nvPr>
            <p:ph type="dt" idx="4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3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40" name="PlaceHolder 5"/>
          <p:cNvSpPr>
            <a:spLocks noGrp="1"/>
          </p:cNvSpPr>
          <p:nvPr>
            <p:ph type="sldNum" idx="42"/>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16AE-ACF3-416B-B4E6-A17E702F0801}"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427D-A4BB-4FEF-BA7B-4ED93F0EC716}"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6"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AC00-79FB-4395-BAF1-639C214072EE}"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27"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C561-7D2F-4AD8-89C7-E17AAAA64A67}"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68"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3DE3-4379-49FC-B6F5-3AE451217B38}"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09"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1A29-7608-451F-B5EF-AB3D13FFA7C2}"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50"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DAA8-E61F-4EE0-B055-D782C76E4EA5}"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91"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3465-0D28-422F-B11E-8DA716E24A9E}"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32"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F2B1-AE22-4A7A-9A1C-BAE4CB6293E8}"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99680" y="357120"/>
            <a:ext cx="8001000" cy="1285920"/>
          </a:xfrm>
          <a:prstGeom prst="rect">
            <a:avLst/>
          </a:prstGeom>
          <a:blipFill rotWithShape="0">
            <a:blip r:embed="rId1"/>
            <a:tile tx="0" ty="0" sx="100000" sy="100000" algn="ctr"/>
          </a:blip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RESOLUCIÓN DIRECTORAL </a:t>
            </a:r>
            <a:br>
              <a:rPr sz="2800"/>
            </a:br>
            <a:r>
              <a:rPr b="1" lang="es-ES" sz="2800" spc="-1" strike="noStrike">
                <a:solidFill>
                  <a:srgbClr val="ff0000"/>
                </a:solidFill>
                <a:latin typeface="Arial"/>
              </a:rPr>
              <a:t>Nº 018-2010-EF/93.01</a:t>
            </a:r>
            <a:br>
              <a:rPr sz="2800"/>
            </a:br>
            <a:endParaRPr b="1" lang="en-US" sz="2800" spc="-1" strike="noStrike">
              <a:solidFill>
                <a:srgbClr val="000000"/>
              </a:solidFill>
              <a:latin typeface="Arial"/>
            </a:endParaRPr>
          </a:p>
        </p:txBody>
      </p:sp>
      <p:sp>
        <p:nvSpPr>
          <p:cNvPr id="578" name=""/>
          <p:cNvSpPr txBox="1"/>
          <p:nvPr/>
        </p:nvSpPr>
        <p:spPr>
          <a:xfrm>
            <a:off x="214200" y="2214360"/>
            <a:ext cx="8501040" cy="3429000"/>
          </a:xfrm>
          <a:prstGeom prst="rect">
            <a:avLst/>
          </a:prstGeom>
          <a:blipFill rotWithShape="0">
            <a:blip r:embed="rId2"/>
            <a:tile tx="0" ty="0" sx="100000" sy="100000" algn="ctr"/>
          </a:blipFill>
          <a:ln w="0">
            <a:noFill/>
          </a:ln>
        </p:spPr>
        <p:txBody>
          <a:bodyPr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APRUEBA  LA  </a:t>
            </a:r>
            <a:endParaRPr b="0" lang="en-US" sz="2400" spc="-1" strike="noStrike">
              <a:solidFill>
                <a:srgbClr val="000000"/>
              </a:solidFill>
              <a:latin typeface="Arial"/>
            </a:endParaRPr>
          </a:p>
          <a:p>
            <a:pPr marL="469800" indent="-469800" algn="ct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DIRECTIVA   Nº 003-2010-EF/93.01   </a:t>
            </a:r>
            <a:endParaRPr b="0" lang="en-US" sz="2800" spc="-1" strike="noStrike">
              <a:solidFill>
                <a:srgbClr val="000000"/>
              </a:solidFill>
              <a:latin typeface="Arial"/>
            </a:endParaRPr>
          </a:p>
          <a:p>
            <a:pPr marL="469800" indent="-469800"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lang="es-ES" sz="2400" spc="-1" strike="noStrike">
                <a:solidFill>
                  <a:srgbClr val="000000"/>
                </a:solidFill>
                <a:latin typeface="Arial"/>
              </a:rPr>
              <a:t>CIERRE CONTABLE Y </a:t>
            </a:r>
            <a:endParaRPr b="0" lang="en-US" sz="2400" spc="-1" strike="noStrike">
              <a:solidFill>
                <a:srgbClr val="000000"/>
              </a:solidFill>
              <a:latin typeface="Arial"/>
            </a:endParaRPr>
          </a:p>
          <a:p>
            <a:pPr marL="469800" indent="-469800"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PRESENTACIÓN DE INFORMACIÓN PARA LA </a:t>
            </a:r>
            <a:endParaRPr b="0" lang="en-US" sz="2400" spc="-1" strike="noStrike">
              <a:solidFill>
                <a:srgbClr val="000000"/>
              </a:solidFill>
              <a:latin typeface="Arial"/>
            </a:endParaRPr>
          </a:p>
          <a:p>
            <a:pPr marL="469800" indent="-469800"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ELABORACIÓN DE LA CUENTA GENERAL DE LA </a:t>
            </a:r>
            <a:endParaRPr b="0" lang="en-US" sz="2400" spc="-1" strike="noStrike">
              <a:solidFill>
                <a:srgbClr val="000000"/>
              </a:solidFill>
              <a:latin typeface="Arial"/>
            </a:endParaRPr>
          </a:p>
          <a:p>
            <a:pPr marL="469800" indent="-469800"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REPÚBLICA” </a:t>
            </a:r>
            <a:endParaRPr b="0" lang="en-US" sz="2400" spc="-1" strike="noStrike">
              <a:solidFill>
                <a:srgbClr val="000000"/>
              </a:solidFill>
              <a:latin typeface="Arial"/>
            </a:endParaRPr>
          </a:p>
        </p:txBody>
      </p:sp>
      <p:sp>
        <p:nvSpPr>
          <p:cNvPr id="579"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2B54-5999-46C3-8535-43E258E954E5}" type="slidenum">
              <a:rPr b="0" lang="es-PE" sz="1200" spc="-1" strike="noStrike">
                <a:solidFill>
                  <a:srgbClr val="000000"/>
                </a:solidFill>
                <a:latin typeface="Verdana"/>
              </a:rPr>
              <a:t>1</a:t>
            </a:fld>
            <a:endParaRPr b="1" i="1" lang="en-US" sz="1200" spc="-1" strike="noStrike">
              <a:solidFill>
                <a:srgbClr val="000000"/>
              </a:solidFill>
              <a:latin typeface="Verdana"/>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71320" y="142920"/>
            <a:ext cx="8001000" cy="35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Arial"/>
              </a:rPr>
              <a:t>13.  ELABORACIÓN Y PRESENTACIÓN DE LOS ESTADOS FINANCIEROS</a:t>
            </a:r>
            <a:endParaRPr b="1" lang="en-US" sz="1600" spc="-1" strike="noStrike">
              <a:solidFill>
                <a:srgbClr val="000000"/>
              </a:solidFill>
              <a:latin typeface="Arial"/>
            </a:endParaRPr>
          </a:p>
        </p:txBody>
      </p:sp>
      <p:sp>
        <p:nvSpPr>
          <p:cNvPr id="605" name=""/>
          <p:cNvSpPr txBox="1"/>
          <p:nvPr/>
        </p:nvSpPr>
        <p:spPr>
          <a:xfrm>
            <a:off x="428760" y="642960"/>
            <a:ext cx="8138880" cy="6215040"/>
          </a:xfrm>
          <a:prstGeom prst="rect">
            <a:avLst/>
          </a:prstGeom>
          <a:noFill/>
          <a:ln w="0">
            <a:noFill/>
          </a:ln>
        </p:spPr>
        <p:txBody>
          <a:bodyPr anchor="t">
            <a:normAutofit fontScale="99000"/>
          </a:bodyPr>
          <a:p>
            <a:pPr marL="464760" indent="-46476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x)  Las entidades deben tener en cuenta que cuando entregan terrenos o edificios Afectados en Uso sin contraprestación, el reconocimiento contable corresponde a una incorporación del activo para quien lo recibe y un retiro de los mismos para quien entrega, esta transacción tanto para la entidad que recibe los bienes como para la que entrega debe tener una conciliación de saldos para evitar registros que dupliquen la información o que los activos queden sin revelar para las dos entidades y en la Cuenta General de la República.</a:t>
            </a:r>
            <a:endParaRPr b="0" lang="en-US" sz="2000" spc="-1" strike="noStrike">
              <a:solidFill>
                <a:srgbClr val="000000"/>
              </a:solidFill>
              <a:latin typeface="Arial"/>
            </a:endParaRPr>
          </a:p>
          <a:p>
            <a:pPr marL="464760" indent="-46476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4760" indent="-464760" algn="just">
              <a:spcAft>
                <a:spcPts val="751"/>
              </a:spcAft>
              <a:buClr>
                <a:srgbClr val="cc0000"/>
              </a:buClr>
              <a:buFont typeface="Arial"/>
              <a:buAutoNum type="alphaLcParenR"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336600"/>
                </a:solidFill>
                <a:latin typeface="Arial"/>
              </a:rPr>
              <a:t> </a:t>
            </a:r>
            <a:r>
              <a:rPr b="0" lang="es-PE" sz="2000" spc="-1" strike="noStrike">
                <a:solidFill>
                  <a:srgbClr val="336600"/>
                </a:solidFill>
                <a:latin typeface="Arial"/>
              </a:rPr>
              <a:t>Los Edificios y Estructuras Afectados en Uso recibidos por la entidad, los Adquiridos en Arrendamiento Financiero y los Entregados en Concesión serán objeto de depreciación, registrándose en la cuenta de valuación correspondiente.</a:t>
            </a:r>
            <a:endParaRPr b="0" lang="en-US" sz="2000" spc="-1" strike="noStrike">
              <a:solidFill>
                <a:srgbClr val="000000"/>
              </a:solidFill>
              <a:latin typeface="Arial"/>
            </a:endParaRPr>
          </a:p>
          <a:p>
            <a:pPr marL="464760" indent="-46476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4760" indent="-46476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z</a:t>
            </a:r>
            <a:r>
              <a:rPr b="0" lang="es-PE" sz="2000" spc="-1" strike="noStrike">
                <a:solidFill>
                  <a:srgbClr val="000000"/>
                </a:solidFill>
                <a:latin typeface="Arial"/>
              </a:rPr>
              <a:t>)  Los Edificios, Estructuras y Terrenos Cedidos en Uso serán controlados en cuentas de orden por la entidad receptora de dichos bienes, la depreciación de los Edificios y Estructuras Cedidos en Uso serán  registrados por la entidad que entregó el bien.</a:t>
            </a:r>
            <a:endParaRPr b="0" lang="en-US" sz="2000" spc="-1" strike="noStrike">
              <a:solidFill>
                <a:srgbClr val="000000"/>
              </a:solidFill>
              <a:latin typeface="Arial"/>
            </a:endParaRPr>
          </a:p>
          <a:p>
            <a:pPr marL="464760" indent="-46476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4760" indent="-46476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4760" indent="-4647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71320" y="142920"/>
            <a:ext cx="8001000" cy="35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Arial"/>
              </a:rPr>
              <a:t>13.  ELABORACIÓN Y PRESENTACIÓN DE LOS ESTADOS FINANCIEROS</a:t>
            </a:r>
            <a:endParaRPr b="1" lang="en-US" sz="1600" spc="-1" strike="noStrike">
              <a:solidFill>
                <a:srgbClr val="000000"/>
              </a:solidFill>
              <a:latin typeface="Arial"/>
            </a:endParaRPr>
          </a:p>
        </p:txBody>
      </p:sp>
      <p:sp>
        <p:nvSpPr>
          <p:cNvPr id="607" name=""/>
          <p:cNvSpPr txBox="1"/>
          <p:nvPr/>
        </p:nvSpPr>
        <p:spPr>
          <a:xfrm>
            <a:off x="566280" y="642960"/>
            <a:ext cx="8001000" cy="5857920"/>
          </a:xfrm>
          <a:prstGeom prst="rect">
            <a:avLst/>
          </a:prstGeom>
          <a:noFill/>
          <a:ln w="0">
            <a:noFill/>
          </a:ln>
        </p:spPr>
        <p:txBody>
          <a:bodyPr anchor="t">
            <a:normAutofit/>
          </a:bodyPr>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a) El traslado de los saldos acreedores de las cuentas 3301 Reservas, 3401 Resultados Acumulados y los saldos deudores y acreedores de la cuenta  3201 Hacienda Nacional Adicional del ejercicio anterior, a la cuenta 3101 Hacienda Nacional, se efectuará al cierre del ejercicio en observancia a lo dispuesto en la dinámica establecida en el Plan Contable Gubernamental. </a:t>
            </a:r>
            <a:endParaRPr b="0" lang="en-US" sz="20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b) Los saldos deudor o acreedor de la</a:t>
            </a:r>
            <a:r>
              <a:rPr b="0" lang="es-PE" sz="2000" spc="-1" strike="noStrike">
                <a:solidFill>
                  <a:srgbClr val="000000"/>
                </a:solidFill>
                <a:latin typeface="Arial"/>
              </a:rPr>
              <a:t> cuenta 1601 Traspasos y Remesas, serán trasladados al finalizar el ejercicio, a la cuenta 3201 Hacienda Nacional Adicional.</a:t>
            </a:r>
            <a:endParaRPr b="0" lang="en-US" sz="20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endParaRPr b="0" lang="en-US" sz="20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cc) Los saldos de la cuenta 1204 Fideicomiso, serán objeto de reclasificación para efecto de presentación en el Balance General, para mostrar separadamente la parte corriente  en el rubro Gasto Pagado por Anticipado y la no corriente  en el concepto Otras Cuentas del Activo.</a:t>
            </a:r>
            <a:endParaRPr b="0" lang="en-US" sz="20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3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8689-DFAF-4BBA-9277-C4A7879E9C11}"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4 Rectángulo redondeado"/>
          <p:cNvSpPr/>
          <p:nvPr/>
        </p:nvSpPr>
        <p:spPr>
          <a:xfrm>
            <a:off x="500040" y="285840"/>
            <a:ext cx="8143920" cy="571320"/>
          </a:xfrm>
          <a:prstGeom prst="roundRect">
            <a:avLst>
              <a:gd name="adj" fmla="val 16667"/>
            </a:avLst>
          </a:prstGeom>
          <a:gradFill rotWithShape="0">
            <a:gsLst>
              <a:gs pos="0">
                <a:srgbClr val="e2ebf5"/>
              </a:gs>
              <a:gs pos="100000">
                <a:srgbClr val="f6f9fd"/>
              </a:gs>
            </a:gsLst>
            <a:lin ang="16200000"/>
          </a:gradFill>
          <a:ln w="9360">
            <a:solidFill>
              <a:srgbClr val="c9d0d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81" name="PlaceHolder 1"/>
          <p:cNvSpPr>
            <a:spLocks noGrp="1"/>
          </p:cNvSpPr>
          <p:nvPr>
            <p:ph type="title"/>
          </p:nvPr>
        </p:nvSpPr>
        <p:spPr>
          <a:xfrm>
            <a:off x="574200" y="304920"/>
            <a:ext cx="8001000" cy="552240"/>
          </a:xfrm>
          <a:prstGeom prst="rect">
            <a:avLst/>
          </a:prstGeom>
          <a:blipFill rotWithShape="0">
            <a:blip r:embed="rId1"/>
            <a:tile tx="0" ty="0" sx="100000" sy="100000" algn="ctr"/>
          </a:blip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DIRECTIVA Nº 003-2010-EF/93.01</a:t>
            </a:r>
            <a:endParaRPr b="1" lang="en-US" sz="2400" spc="-1" strike="noStrike">
              <a:solidFill>
                <a:srgbClr val="000000"/>
              </a:solidFill>
              <a:latin typeface="Arial"/>
            </a:endParaRPr>
          </a:p>
        </p:txBody>
      </p:sp>
      <p:sp>
        <p:nvSpPr>
          <p:cNvPr id="582"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514F-E7C3-4FA2-B339-6F864F58F025}"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83" name=""/>
          <p:cNvSpPr txBox="1"/>
          <p:nvPr/>
        </p:nvSpPr>
        <p:spPr>
          <a:xfrm>
            <a:off x="571320" y="1071720"/>
            <a:ext cx="8001000" cy="5214960"/>
          </a:xfrm>
          <a:prstGeom prst="rect">
            <a:avLst/>
          </a:prstGeom>
          <a:noFill/>
          <a:ln w="0">
            <a:noFill/>
          </a:ln>
        </p:spPr>
        <p:txBody>
          <a:bodyPr anchor="t">
            <a:normAutofit/>
          </a:bodyPr>
          <a:p>
            <a:pPr marL="469800" indent="-469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Arial"/>
              </a:rPr>
              <a:t>13.  ELABORACIÓN Y PRESENTACIÓN DE LOS ESTADOS FINANCIEROS</a:t>
            </a:r>
            <a:endParaRPr b="0" lang="en-US" sz="1600" spc="-1" strike="noStrike">
              <a:solidFill>
                <a:srgbClr val="000000"/>
              </a:solidFill>
              <a:latin typeface="Arial"/>
            </a:endParaRPr>
          </a:p>
          <a:p>
            <a:pPr marL="469800" indent="-469800" algn="just">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a) </a:t>
            </a:r>
            <a:r>
              <a:rPr b="0" lang="es-PE" sz="1600" spc="-1" strike="noStrike">
                <a:solidFill>
                  <a:srgbClr val="000000"/>
                </a:solidFill>
                <a:latin typeface="Arial"/>
              </a:rPr>
              <a:t>	</a:t>
            </a:r>
            <a:r>
              <a:rPr b="0" lang="es-PE" sz="1600" spc="-1" strike="noStrike">
                <a:solidFill>
                  <a:srgbClr val="000000"/>
                </a:solidFill>
                <a:latin typeface="Arial"/>
              </a:rPr>
              <a:t>La formulación y presentación de los estados financieros por las entidades  del sector público que aplican la contabilidad gubernamental, se efectuará de conformidad con las normas emitidas por el Órgano Rector del Sistema Nacional de Contabilidad, los Principios de Contabilidad Generalmente Aceptados en el país y las Normas Internacionales de Contabilidad para el Sector Público NIC-SP, oficializadas por el Consejo Normativo de Contabilidad.</a:t>
            </a:r>
            <a:endParaRPr b="0" lang="en-US" sz="1600" spc="-1" strike="noStrike">
              <a:solidFill>
                <a:srgbClr val="000000"/>
              </a:solidFill>
              <a:latin typeface="Arial"/>
            </a:endParaRPr>
          </a:p>
          <a:p>
            <a:pPr marL="469800" indent="-469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a:t>
            </a:r>
            <a:endParaRPr b="0" lang="en-US" sz="1600" spc="-1" strike="noStrike">
              <a:solidFill>
                <a:srgbClr val="000000"/>
              </a:solidFill>
              <a:latin typeface="Arial"/>
            </a:endParaRPr>
          </a:p>
          <a:p>
            <a:pPr marL="469800" indent="-469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b)</a:t>
            </a:r>
            <a:r>
              <a:rPr b="0" lang="es-PE" sz="1600" spc="-1" strike="noStrike">
                <a:solidFill>
                  <a:srgbClr val="000000"/>
                </a:solidFill>
                <a:latin typeface="Arial"/>
              </a:rPr>
              <a:t>	</a:t>
            </a:r>
            <a:r>
              <a:rPr b="0" lang="es-PE" sz="1600" spc="-1" strike="noStrike">
                <a:solidFill>
                  <a:srgbClr val="000000"/>
                </a:solidFill>
                <a:latin typeface="Arial"/>
              </a:rPr>
              <a:t>Los estados financieros se presentan en moneda nacional a nivel de dos decimales. </a:t>
            </a:r>
            <a:endParaRPr b="0" lang="en-US" sz="1600" spc="-1" strike="noStrike">
              <a:solidFill>
                <a:srgbClr val="000000"/>
              </a:solidFill>
              <a:latin typeface="Arial"/>
            </a:endParaRPr>
          </a:p>
          <a:p>
            <a:pPr marL="469800" indent="-469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a:t>
            </a:r>
            <a:endParaRPr b="0" lang="en-US" sz="1600" spc="-1" strike="noStrike">
              <a:solidFill>
                <a:srgbClr val="000000"/>
              </a:solidFill>
              <a:latin typeface="Arial"/>
            </a:endParaRPr>
          </a:p>
          <a:p>
            <a:pPr marL="469800" indent="-469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c)</a:t>
            </a:r>
            <a:r>
              <a:rPr b="0" lang="es-PE" sz="1600" spc="-1" strike="noStrike">
                <a:solidFill>
                  <a:srgbClr val="000000"/>
                </a:solidFill>
                <a:latin typeface="Arial"/>
              </a:rPr>
              <a:t>	</a:t>
            </a:r>
            <a:r>
              <a:rPr b="0" lang="es-PE" sz="1600" spc="-1" strike="noStrike">
                <a:solidFill>
                  <a:srgbClr val="000000"/>
                </a:solidFill>
                <a:latin typeface="Arial"/>
              </a:rPr>
              <a:t>Para efectos comparativos, los saldos que muestran los estados financieros del ejercicio anterior, deben presentarse netos de estimaciones, </a:t>
            </a:r>
            <a:r>
              <a:rPr b="0" lang="es-ES" sz="1600" spc="-1" strike="noStrike">
                <a:solidFill>
                  <a:srgbClr val="000000"/>
                </a:solidFill>
                <a:latin typeface="Arial"/>
              </a:rPr>
              <a:t>debiendo ser los mismos que presentaron en dicho periodo.</a:t>
            </a:r>
            <a:endParaRPr b="0" lang="en-US" sz="1600" spc="-1" strike="noStrike">
              <a:solidFill>
                <a:srgbClr val="000000"/>
              </a:solidFill>
              <a:latin typeface="Arial"/>
            </a:endParaRPr>
          </a:p>
          <a:p>
            <a:pPr marL="469800" indent="-469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PE" sz="1600" spc="-1" strike="noStrike">
                <a:solidFill>
                  <a:srgbClr val="000000"/>
                </a:solidFill>
                <a:latin typeface="Arial"/>
              </a:rPr>
              <a:t> </a:t>
            </a:r>
            <a:endParaRPr b="0" lang="en-US" sz="1600" spc="-1" strike="noStrike">
              <a:solidFill>
                <a:srgbClr val="000000"/>
              </a:solidFill>
              <a:latin typeface="Arial"/>
            </a:endParaRPr>
          </a:p>
          <a:p>
            <a:pPr marL="469800" indent="-469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d) </a:t>
            </a:r>
            <a:r>
              <a:rPr b="0" lang="es-PE" sz="1600" spc="-1" strike="noStrike">
                <a:solidFill>
                  <a:srgbClr val="000000"/>
                </a:solidFill>
                <a:latin typeface="Arial"/>
              </a:rPr>
              <a:t>	</a:t>
            </a:r>
            <a:r>
              <a:rPr b="0" lang="es-PE" sz="1600" spc="-1" strike="noStrike">
                <a:solidFill>
                  <a:srgbClr val="000000"/>
                </a:solidFill>
                <a:latin typeface="Arial"/>
              </a:rPr>
              <a:t>Para una adecuada presentación del Balance General, las entidades gubernamentales deben efectuar las reclasificaciones, según las pautas dispuestas por el Plan Contable Gubernamental:</a:t>
            </a:r>
            <a:endParaRPr b="0" lang="en-US" sz="1600" spc="-1" strike="noStrike">
              <a:solidFill>
                <a:srgbClr val="000000"/>
              </a:solidFill>
              <a:latin typeface="Arial"/>
            </a:endParaRPr>
          </a:p>
          <a:p>
            <a:pPr marL="469800" indent="-469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74200" y="142560"/>
            <a:ext cx="800100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Arial"/>
              </a:rPr>
              <a:t>13.  ELABORACIÓN Y PRESENTACIÓN DE LOS ESTADOS FINANCIEROS</a:t>
            </a:r>
            <a:endParaRPr b="1" lang="en-US" sz="1600" spc="-1" strike="noStrike">
              <a:solidFill>
                <a:srgbClr val="000000"/>
              </a:solidFill>
              <a:latin typeface="Arial"/>
            </a:endParaRPr>
          </a:p>
        </p:txBody>
      </p:sp>
      <p:sp>
        <p:nvSpPr>
          <p:cNvPr id="585" name=""/>
          <p:cNvSpPr txBox="1"/>
          <p:nvPr/>
        </p:nvSpPr>
        <p:spPr>
          <a:xfrm>
            <a:off x="566280" y="713880"/>
            <a:ext cx="8001000" cy="6000840"/>
          </a:xfrm>
          <a:prstGeom prst="rect">
            <a:avLst/>
          </a:prstGeom>
          <a:noFill/>
          <a:ln w="0">
            <a:noFill/>
          </a:ln>
        </p:spPr>
        <p:txBody>
          <a:bodyPr anchor="t">
            <a:normAutofit fontScale="99000"/>
          </a:bodyPr>
          <a:p>
            <a:pPr marL="464760" indent="-464760" algn="just">
              <a:spcAft>
                <a:spcPts val="67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l saldo de las subcuentas 1101.05 Fondos Sujetos a Restricción, 1101.07 Depósitos en Instituciones Financieras no Recuperados y 1102.99 Inversiones Disponibles no Recuperados, se presentarán en el rubro Otras Cuentas del Activo.</a:t>
            </a:r>
            <a:endParaRPr b="0" lang="en-US" sz="1800" spc="-1" strike="noStrike">
              <a:solidFill>
                <a:srgbClr val="000000"/>
              </a:solidFill>
              <a:latin typeface="Arial"/>
            </a:endParaRPr>
          </a:p>
          <a:p>
            <a:pPr marL="464760" indent="-46476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endParaRPr b="0" lang="en-US" sz="1800" spc="-1" strike="noStrike">
              <a:solidFill>
                <a:srgbClr val="000000"/>
              </a:solidFill>
              <a:latin typeface="Arial"/>
            </a:endParaRPr>
          </a:p>
          <a:p>
            <a:pPr marL="464760" indent="-464760" algn="just">
              <a:spcAft>
                <a:spcPts val="67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l saldo de la subcuenta 2104.04 Encargos Recibidos, se le deberá deducir el saldo de las sub cuentas 1101.06 Encargos y 1205.0602 Ejecución de Encargos Recibidos, por los saldos disponibles para la ejecución del encargo y por el monto que alcanza la ejecución del mismo, esta situación debe ser reflejada como practica contable en la Nota Nº  2 a los Estados Financieros por las entidades receptoras de encargos.</a:t>
            </a:r>
            <a:endParaRPr b="0" lang="en-US" sz="1800" spc="-1" strike="noStrike">
              <a:solidFill>
                <a:srgbClr val="000000"/>
              </a:solidFill>
              <a:latin typeface="Arial"/>
            </a:endParaRPr>
          </a:p>
          <a:p>
            <a:pPr marL="464760" indent="-46476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endParaRPr b="0" lang="en-US" sz="1800" spc="-1" strike="noStrike">
              <a:solidFill>
                <a:srgbClr val="000000"/>
              </a:solidFill>
              <a:latin typeface="Arial"/>
            </a:endParaRPr>
          </a:p>
          <a:p>
            <a:pPr marL="464760" indent="-464760" algn="just">
              <a:spcAft>
                <a:spcPts val="67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n lo que corresponde al saldo de la subcuenta 2102.03 Compensación por Tiempo de Servicios por Pagar, cuya liquidación se espera se realice en el corto plazo, se presentará en el rubro Cuentas por Pagar del Balance General y se mostrará deducido del saldo de la subcuenta 1202.0803 Adelanto por Tiempo de Servicios (dentro del régimen laboral que les permita dichos adelantos).</a:t>
            </a:r>
            <a:endParaRPr b="0" lang="en-US" sz="1800" spc="-1" strike="noStrike">
              <a:solidFill>
                <a:srgbClr val="000000"/>
              </a:solidFill>
              <a:latin typeface="Arial"/>
            </a:endParaRPr>
          </a:p>
          <a:p>
            <a:pPr marL="464760" indent="-46476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endParaRPr b="0" lang="en-US" sz="1800" spc="-1" strike="noStrike">
              <a:solidFill>
                <a:srgbClr val="000000"/>
              </a:solidFill>
              <a:latin typeface="Arial"/>
            </a:endParaRPr>
          </a:p>
          <a:p>
            <a:pPr marL="464760" indent="-464760" algn="just">
              <a:spcAft>
                <a:spcPts val="67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3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C3FF-A349-4631-973C-D6710C7B0739}"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74200" y="142560"/>
            <a:ext cx="800100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Arial"/>
              </a:rPr>
              <a:t>13.  ELABORACIÓN Y PRESENTACIÓN DE LOS ESTADOS FINANCIEROS</a:t>
            </a:r>
            <a:endParaRPr b="1" lang="en-US" sz="1600" spc="-1" strike="noStrike">
              <a:solidFill>
                <a:srgbClr val="000000"/>
              </a:solidFill>
              <a:latin typeface="Arial"/>
            </a:endParaRPr>
          </a:p>
        </p:txBody>
      </p:sp>
      <p:sp>
        <p:nvSpPr>
          <p:cNvPr id="588" name=""/>
          <p:cNvSpPr txBox="1"/>
          <p:nvPr/>
        </p:nvSpPr>
        <p:spPr>
          <a:xfrm>
            <a:off x="499680" y="1143000"/>
            <a:ext cx="8001000" cy="5143680"/>
          </a:xfrm>
          <a:prstGeom prst="rect">
            <a:avLst/>
          </a:prstGeom>
          <a:noFill/>
          <a:ln w="0">
            <a:noFill/>
          </a:ln>
        </p:spPr>
        <p:txBody>
          <a:bodyPr anchor="t">
            <a:normAutofit/>
          </a:bodyPr>
          <a:p>
            <a:pPr marL="469800" indent="-469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e)     </a:t>
            </a:r>
            <a:r>
              <a:rPr b="0" lang="es-PE" sz="1600" spc="-1" strike="noStrike">
                <a:solidFill>
                  <a:srgbClr val="000000"/>
                </a:solidFill>
                <a:latin typeface="Arial"/>
              </a:rPr>
              <a:t>	</a:t>
            </a:r>
            <a:r>
              <a:rPr b="0" lang="es-PE" sz="1600" spc="-1" strike="noStrike">
                <a:solidFill>
                  <a:srgbClr val="000000"/>
                </a:solidFill>
                <a:latin typeface="Arial"/>
              </a:rPr>
              <a:t>Para efecto de una presentación adecuada en el Balance General, los saldos de las cuentas 1201 Cuentas por Cobrar, 1202 Cuentas por Cobrar Diversas y 1203 Préstamos, deberán presentarse en el Activo Corriente y/o Activo no Corriente, en atención, a las fechas de vencimiento  de sus componentes (en los rubros que establece el Plan Contable Gubernamental).</a:t>
            </a:r>
            <a:endParaRPr b="0" lang="en-US" sz="1600" spc="-1" strike="noStrike">
              <a:solidFill>
                <a:srgbClr val="000000"/>
              </a:solidFill>
              <a:latin typeface="Arial"/>
            </a:endParaRPr>
          </a:p>
          <a:p>
            <a:pPr marL="469800" indent="-469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a:t>
            </a:r>
            <a:endParaRPr b="0" lang="en-US" sz="1600" spc="-1" strike="noStrike">
              <a:solidFill>
                <a:srgbClr val="000000"/>
              </a:solidFill>
              <a:latin typeface="Arial"/>
            </a:endParaRPr>
          </a:p>
          <a:p>
            <a:pPr marL="469800" indent="-469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f)</a:t>
            </a:r>
            <a:r>
              <a:rPr b="0" lang="es-PE" sz="1600" spc="-1" strike="noStrike">
                <a:solidFill>
                  <a:srgbClr val="000000"/>
                </a:solidFill>
                <a:latin typeface="Arial"/>
              </a:rPr>
              <a:t>	</a:t>
            </a:r>
            <a:r>
              <a:rPr b="0" lang="es-PE" sz="1600" spc="-1" strike="noStrike">
                <a:solidFill>
                  <a:srgbClr val="000000"/>
                </a:solidFill>
                <a:latin typeface="Arial"/>
              </a:rPr>
              <a:t>Los saldos de las cuentas mencionadas en el literal anterior cuyos vencimientos se consideren de naturaleza  no corriente, no serán objeto de Estimaciones de Cobranza Dudosa. </a:t>
            </a:r>
            <a:endParaRPr b="0" lang="en-US" sz="1600" spc="-1" strike="noStrike">
              <a:solidFill>
                <a:srgbClr val="000000"/>
              </a:solidFill>
              <a:latin typeface="Arial"/>
            </a:endParaRPr>
          </a:p>
          <a:p>
            <a:pPr marL="469800" indent="-469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a:t>
            </a:r>
            <a:endParaRPr b="0" lang="en-US" sz="1600" spc="-1" strike="noStrike">
              <a:solidFill>
                <a:srgbClr val="000000"/>
              </a:solidFill>
              <a:latin typeface="Arial"/>
            </a:endParaRPr>
          </a:p>
          <a:p>
            <a:pPr marL="469800" indent="-469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g)</a:t>
            </a:r>
            <a:r>
              <a:rPr b="0" lang="es-PE" sz="1600" spc="-1" strike="noStrike">
                <a:solidFill>
                  <a:srgbClr val="000000"/>
                </a:solidFill>
                <a:latin typeface="Arial"/>
              </a:rPr>
              <a:t>	</a:t>
            </a:r>
            <a:r>
              <a:rPr b="0" lang="es-PE" sz="1600" spc="-1" strike="noStrike">
                <a:solidFill>
                  <a:srgbClr val="000000"/>
                </a:solidFill>
                <a:latin typeface="Arial"/>
              </a:rPr>
              <a:t>Las entidades que al cierre del ejercicio fiscal y de acuerdo con sus actividades operativas, cuenten con Crédito Fiscal constituido por I.G.V. deberán mostrarlo en el rubro Otras Cuentas por Cobrar del Balance General, cuando se espera que su realización se efectúe en el curso normal de sus operaciones, salvo convenio que especifique lo contrario.</a:t>
            </a:r>
            <a:endParaRPr b="0" lang="en-US" sz="1600" spc="-1" strike="noStrike">
              <a:solidFill>
                <a:srgbClr val="000000"/>
              </a:solidFill>
              <a:latin typeface="Arial"/>
            </a:endParaRPr>
          </a:p>
          <a:p>
            <a:pPr marL="469800" indent="-469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gn="just">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3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155F-8C7E-4AD1-8EB5-743901FBF90E}"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74200" y="213840"/>
            <a:ext cx="8001000" cy="357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Arial"/>
              </a:rPr>
              <a:t>13.  ELABORACIÓN Y PRESENTACIÓN DE LOS ESTADOS FINANCIEROS</a:t>
            </a:r>
            <a:endParaRPr b="1" lang="en-US" sz="1600" spc="-1" strike="noStrike">
              <a:solidFill>
                <a:srgbClr val="000000"/>
              </a:solidFill>
              <a:latin typeface="Arial"/>
            </a:endParaRPr>
          </a:p>
        </p:txBody>
      </p:sp>
      <p:sp>
        <p:nvSpPr>
          <p:cNvPr id="591" name=""/>
          <p:cNvSpPr txBox="1"/>
          <p:nvPr/>
        </p:nvSpPr>
        <p:spPr>
          <a:xfrm>
            <a:off x="571320" y="785880"/>
            <a:ext cx="8001000" cy="5929200"/>
          </a:xfrm>
          <a:prstGeom prst="rect">
            <a:avLst/>
          </a:prstGeom>
          <a:noFill/>
          <a:ln w="0">
            <a:noFill/>
          </a:ln>
        </p:spPr>
        <p:txBody>
          <a:bodyPr anchor="t">
            <a:normAutofit/>
          </a:bodyPr>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t>
            </a:r>
            <a:r>
              <a:rPr b="0" lang="es-ES" sz="1800" spc="-1" strike="noStrike">
                <a:solidFill>
                  <a:srgbClr val="000000"/>
                </a:solidFill>
                <a:latin typeface="Arial"/>
              </a:rPr>
              <a:t>	</a:t>
            </a:r>
            <a:r>
              <a:rPr b="0" lang="es-ES" sz="1800" spc="-1" strike="noStrike">
                <a:solidFill>
                  <a:srgbClr val="000000"/>
                </a:solidFill>
                <a:latin typeface="Arial"/>
              </a:rPr>
              <a:t>L</a:t>
            </a:r>
            <a:r>
              <a:rPr b="0" lang="es-PE" sz="1800" spc="-1" strike="noStrike">
                <a:solidFill>
                  <a:srgbClr val="000000"/>
                </a:solidFill>
                <a:latin typeface="Arial"/>
              </a:rPr>
              <a:t>a sub cuenta 2201.01 Deuda por Operaciones de Tesorería, no debe presentar saldo al cierre del ejercicio. </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	</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i)</a:t>
            </a:r>
            <a:r>
              <a:rPr b="0" lang="es-PE" sz="1800" spc="-1" strike="noStrike">
                <a:solidFill>
                  <a:srgbClr val="000000"/>
                </a:solidFill>
                <a:latin typeface="Arial"/>
              </a:rPr>
              <a:t>	</a:t>
            </a:r>
            <a:r>
              <a:rPr b="0" lang="es-PE" sz="1800" spc="-1" strike="noStrike">
                <a:solidFill>
                  <a:srgbClr val="000000"/>
                </a:solidFill>
                <a:latin typeface="Arial"/>
              </a:rPr>
              <a:t>El rubro Ingresos Diferidos agrupa las sub cuentas que representan ingresos y costos, cuya liquidación parcial o total se debe realizar en  ejercicios posteriores.</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	</a:t>
            </a:r>
            <a:endParaRPr b="0" lang="en-US" sz="1800" spc="-1" strike="noStrike">
              <a:solidFill>
                <a:srgbClr val="000000"/>
              </a:solidFill>
              <a:latin typeface="Arial"/>
            </a:endParaRPr>
          </a:p>
          <a:p>
            <a:pPr marL="469800" indent="-469800" algn="just">
              <a:spcAft>
                <a:spcPts val="675"/>
              </a:spcAft>
              <a:buClr>
                <a:srgbClr val="cc0000"/>
              </a:buClr>
              <a:buFont typeface="Arial"/>
              <a:buAutoNum type="alphaL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336600"/>
                </a:solidFill>
                <a:latin typeface="Arial"/>
              </a:rPr>
              <a:t>El monto de las  Provisiones que se deriven de los procesos judiciales en curso se registraran en base a la información recibida del Director General de Administración, informado por el Procurador Público o funcionario que haga sus veces en las entidades del sector público, quien efectuará  estimación confiable del monto de la posible pérdida</a:t>
            </a:r>
            <a:r>
              <a:rPr b="0" lang="es-PE" sz="1800" spc="-1" strike="noStrike">
                <a:solidFill>
                  <a:srgbClr val="000000"/>
                </a:solidFill>
                <a:latin typeface="Arial"/>
              </a:rPr>
              <a:t>.</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k)   Al cierre del ejercicio, se deberá efectuar el traslado del saldo de los componentes de la subcuenta 1505.03 Otros Gastos Diversos de Activos no Financieros en las cuentas de Construcciones de Edificios Residenciales. No residenciales y Estructuras  en Curso, Inversiones Intangibles, Estudios de Preinversión, Expedientes Técnicos  según corresponda</a:t>
            </a:r>
            <a:r>
              <a:rPr b="0" lang="es-PE" sz="2000" spc="-1" strike="noStrike">
                <a:solidFill>
                  <a:srgbClr val="000000"/>
                </a:solidFill>
                <a:latin typeface="Arial"/>
              </a:rPr>
              <a:t>.</a:t>
            </a:r>
            <a:endParaRPr b="0" lang="en-US" sz="2000" spc="-1" strike="noStrike">
              <a:solidFill>
                <a:srgbClr val="000000"/>
              </a:solidFill>
              <a:latin typeface="Arial"/>
            </a:endParaRPr>
          </a:p>
        </p:txBody>
      </p:sp>
      <p:sp>
        <p:nvSpPr>
          <p:cNvPr id="592" name="3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C7DE-BE65-407F-80F5-298B447B955C}"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574200" y="142560"/>
            <a:ext cx="800100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Arial"/>
              </a:rPr>
              <a:t>13.  ELABORACIÓN Y PRESENTACIÓN DE LOS ESTADOS FINANCIEROS</a:t>
            </a:r>
            <a:endParaRPr b="1" lang="en-US" sz="1600" spc="-1" strike="noStrike">
              <a:solidFill>
                <a:srgbClr val="000000"/>
              </a:solidFill>
              <a:latin typeface="Arial"/>
            </a:endParaRPr>
          </a:p>
        </p:txBody>
      </p:sp>
      <p:sp>
        <p:nvSpPr>
          <p:cNvPr id="594" name=""/>
          <p:cNvSpPr txBox="1"/>
          <p:nvPr/>
        </p:nvSpPr>
        <p:spPr>
          <a:xfrm>
            <a:off x="566280" y="856800"/>
            <a:ext cx="8001000" cy="6715080"/>
          </a:xfrm>
          <a:prstGeom prst="rect">
            <a:avLst/>
          </a:prstGeom>
          <a:noFill/>
          <a:ln w="0">
            <a:noFill/>
          </a:ln>
        </p:spPr>
        <p:txBody>
          <a:bodyPr anchor="t">
            <a:normAutofit/>
          </a:bodyPr>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l) </a:t>
            </a:r>
            <a:r>
              <a:rPr b="0" lang="es-PE" sz="1800" spc="-1" strike="noStrike">
                <a:solidFill>
                  <a:srgbClr val="000000"/>
                </a:solidFill>
                <a:latin typeface="Arial"/>
              </a:rPr>
              <a:t>	</a:t>
            </a:r>
            <a:r>
              <a:rPr b="0" lang="es-PE" sz="1800" spc="-1" strike="noStrike">
                <a:solidFill>
                  <a:srgbClr val="000000"/>
                </a:solidFill>
                <a:latin typeface="Arial"/>
              </a:rPr>
              <a:t>El reconocimiento de gastos registrados con las cuentas 1504 Inversiones Intangibles se efectuará con cargo a la sub cuenta 5506.99 Otros Gastos Diversos al cierre del ejercicio, siempre y cuando sus componentes representen gastos consumidos.</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m) </a:t>
            </a:r>
            <a:r>
              <a:rPr b="0" lang="es-PE" sz="1800" spc="-1" strike="noStrike">
                <a:solidFill>
                  <a:srgbClr val="000000"/>
                </a:solidFill>
                <a:latin typeface="Arial"/>
              </a:rPr>
              <a:t>	</a:t>
            </a:r>
            <a:r>
              <a:rPr b="0" lang="es-PE" sz="1800" spc="-1" strike="noStrike">
                <a:solidFill>
                  <a:srgbClr val="000000"/>
                </a:solidFill>
                <a:latin typeface="Arial"/>
              </a:rPr>
              <a:t>La entrega de bienes y documentos entre pliegos y unidades ejecutoras del mismo pliego en el transcurso de sus operaciones normales, debe afectar los resultados del ejercicio, asimismo, la entrega de fondos entre pliegos.</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n) </a:t>
            </a:r>
            <a:r>
              <a:rPr b="0" lang="es-PE" sz="1800" spc="-1" strike="noStrike">
                <a:solidFill>
                  <a:srgbClr val="000000"/>
                </a:solidFill>
                <a:latin typeface="Arial"/>
              </a:rPr>
              <a:t>	</a:t>
            </a:r>
            <a:r>
              <a:rPr b="0" lang="es-PE" sz="1800" spc="-1" strike="noStrike">
                <a:solidFill>
                  <a:srgbClr val="000000"/>
                </a:solidFill>
                <a:latin typeface="Arial"/>
              </a:rPr>
              <a:t>Los traspasos de fondos entre unidades ejecutoras del mismo pliego o por fusión, liquidación y/o absorción se registra con la subcuenta 1601.03 Traspasos Internos.   </a:t>
            </a:r>
            <a:endParaRPr b="0" lang="en-US" sz="1800" spc="-1" strike="noStrike">
              <a:solidFill>
                <a:srgbClr val="000000"/>
              </a:solidFill>
              <a:latin typeface="Arial"/>
            </a:endParaRPr>
          </a:p>
          <a:p>
            <a:pPr marL="469800" indent="-469800" algn="just">
              <a:spcAft>
                <a:spcPts val="67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74200" y="0"/>
            <a:ext cx="8001000" cy="571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Arial"/>
              </a:rPr>
              <a:t>13.  ELABORACIÓN Y PRESENTACIÓN DE LOS ESTADOS FINANCIEROS</a:t>
            </a:r>
            <a:endParaRPr b="1" lang="en-US" sz="1600" spc="-1" strike="noStrike">
              <a:solidFill>
                <a:srgbClr val="000000"/>
              </a:solidFill>
              <a:latin typeface="Arial"/>
            </a:endParaRPr>
          </a:p>
        </p:txBody>
      </p:sp>
      <p:sp>
        <p:nvSpPr>
          <p:cNvPr id="596" name=""/>
          <p:cNvSpPr txBox="1"/>
          <p:nvPr/>
        </p:nvSpPr>
        <p:spPr>
          <a:xfrm>
            <a:off x="566280" y="713880"/>
            <a:ext cx="8001000" cy="5929560"/>
          </a:xfrm>
          <a:prstGeom prst="rect">
            <a:avLst/>
          </a:prstGeom>
          <a:noFill/>
          <a:ln w="0">
            <a:noFill/>
          </a:ln>
        </p:spPr>
        <p:txBody>
          <a:bodyPr anchor="t">
            <a:normAutofit/>
          </a:bodyPr>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o) </a:t>
            </a:r>
            <a:r>
              <a:rPr b="0" lang="es-PE" sz="1800" spc="-1" strike="noStrike">
                <a:solidFill>
                  <a:srgbClr val="000000"/>
                </a:solidFill>
                <a:latin typeface="Arial"/>
              </a:rPr>
              <a:t>	</a:t>
            </a:r>
            <a:r>
              <a:rPr b="0" lang="es-PE" sz="1800" spc="-1" strike="noStrike">
                <a:solidFill>
                  <a:srgbClr val="000000"/>
                </a:solidFill>
                <a:latin typeface="Arial"/>
              </a:rPr>
              <a:t>El monto de los intereses y otros gastos generados por deudas devengadas pendientes de pago, se registraran como gastos devengados del periodo, correspondiendo  su rebaja del control en cuentas de orden. </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p)  </a:t>
            </a:r>
            <a:r>
              <a:rPr b="0" lang="es-PE" sz="1800" spc="-1" strike="noStrike">
                <a:solidFill>
                  <a:srgbClr val="000000"/>
                </a:solidFill>
                <a:latin typeface="Arial"/>
              </a:rPr>
              <a:t>	</a:t>
            </a:r>
            <a:r>
              <a:rPr b="0" lang="es-PE" sz="1800" spc="-1" strike="noStrike">
                <a:solidFill>
                  <a:srgbClr val="000000"/>
                </a:solidFill>
                <a:latin typeface="Arial"/>
              </a:rPr>
              <a:t>La Nota Nº 1 - Actividad Económica, revelará los datos de la entidad, como son: base legal, fecha de creación, actividad, domicilio legal. </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q) </a:t>
            </a:r>
            <a:r>
              <a:rPr b="0" lang="es-PE" sz="1800" spc="-1" strike="noStrike">
                <a:solidFill>
                  <a:srgbClr val="000000"/>
                </a:solidFill>
                <a:latin typeface="Arial"/>
              </a:rPr>
              <a:t>	</a:t>
            </a:r>
            <a:r>
              <a:rPr b="0" lang="es-PE" sz="1800" spc="-1" strike="noStrike">
                <a:solidFill>
                  <a:srgbClr val="000000"/>
                </a:solidFill>
                <a:latin typeface="Arial"/>
              </a:rPr>
              <a:t>La Nota Nº 2 deberá revelar los Principios y Prácticas Contables, aplicados en la formulación de los Estados Financieros.</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r)  </a:t>
            </a:r>
            <a:r>
              <a:rPr b="0" lang="es-PE" sz="1800" spc="-1" strike="noStrike">
                <a:solidFill>
                  <a:srgbClr val="000000"/>
                </a:solidFill>
                <a:latin typeface="Arial"/>
              </a:rPr>
              <a:t>	</a:t>
            </a:r>
            <a:r>
              <a:rPr b="0" lang="es-PE" sz="1800" spc="-1" strike="noStrike">
                <a:solidFill>
                  <a:srgbClr val="000000"/>
                </a:solidFill>
                <a:latin typeface="Arial"/>
              </a:rPr>
              <a:t>Las Notas a los Estados Financieros deben ser presentadas en forma comparativa con el ejercicio anterior, las mismas que explicarán los cambios y efectos más significativos ocurridos en el periodo, a nivel de cuentas de balance y de gestión.</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endParaRPr b="0" lang="en-US" sz="1800" spc="-1" strike="noStrike">
              <a:solidFill>
                <a:srgbClr val="000000"/>
              </a:solidFill>
              <a:latin typeface="Arial"/>
            </a:endParaRPr>
          </a:p>
          <a:p>
            <a:pPr marL="469800" indent="-469800" algn="just">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s) </a:t>
            </a:r>
            <a:r>
              <a:rPr b="0" lang="es-PE" sz="1800" spc="-1" strike="noStrike">
                <a:solidFill>
                  <a:srgbClr val="000000"/>
                </a:solidFill>
                <a:latin typeface="Arial"/>
              </a:rPr>
              <a:t>	</a:t>
            </a:r>
            <a:r>
              <a:rPr b="0" lang="es-PE" sz="1800" spc="-1" strike="noStrike">
                <a:solidFill>
                  <a:srgbClr val="000000"/>
                </a:solidFill>
                <a:latin typeface="Arial"/>
              </a:rPr>
              <a:t>Los Estados Financieros deberán revelar todas las notas aplicables y exigidas por la NIC SP.</a:t>
            </a:r>
            <a:endParaRPr b="0" lang="en-US" sz="1800" spc="-1" strike="noStrike">
              <a:solidFill>
                <a:srgbClr val="000000"/>
              </a:solidFill>
              <a:latin typeface="Arial"/>
            </a:endParaRPr>
          </a:p>
          <a:p>
            <a:pPr marL="469800" indent="-469800" algn="just">
              <a:spcAft>
                <a:spcPts val="67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3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E1AE7-CFBB-4F51-81DE-98EADD041B51}"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571320" y="0"/>
            <a:ext cx="8001000" cy="64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Arial"/>
              </a:rPr>
              <a:t>13.  ELABORACIÓN Y PRESENTACIÓN DE LOS ESTADOS FINANCIEROS</a:t>
            </a:r>
            <a:endParaRPr b="1" lang="en-US" sz="1600" spc="-1" strike="noStrike">
              <a:solidFill>
                <a:srgbClr val="000000"/>
              </a:solidFill>
              <a:latin typeface="Arial"/>
            </a:endParaRPr>
          </a:p>
        </p:txBody>
      </p:sp>
      <p:sp>
        <p:nvSpPr>
          <p:cNvPr id="599" name=""/>
          <p:cNvSpPr txBox="1"/>
          <p:nvPr/>
        </p:nvSpPr>
        <p:spPr>
          <a:xfrm>
            <a:off x="566280" y="713880"/>
            <a:ext cx="8001000" cy="5929560"/>
          </a:xfrm>
          <a:prstGeom prst="rect">
            <a:avLst/>
          </a:prstGeom>
          <a:noFill/>
          <a:ln w="0">
            <a:noFill/>
          </a:ln>
        </p:spPr>
        <p:txBody>
          <a:bodyPr anchor="t">
            <a:normAutofit/>
          </a:bodyPr>
          <a:p>
            <a:pPr marL="469800" indent="-469800" algn="just">
              <a:spcAft>
                <a:spcPts val="751"/>
              </a:spcAft>
              <a:buClr>
                <a:srgbClr val="cc0000"/>
              </a:buClr>
              <a:buFont typeface="Arial"/>
              <a:buAutoNum type="alphaLcParenR"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as Notas de los rubros Cuentas por Cobrar y Otras Cuentas por Cobrar, del Activo Corriente, deberán presentar la composición de la parte corriente de las cuentas que los conforman, seguido de la Estimación de Cuentas de Cobranza Dudosa con signo negativo y finalmente el saldo neto, adicionalmente cada nota debe contar con una explicación de las incidencias más significativas en los saldos de dichos rubros.</a:t>
            </a:r>
            <a:endParaRPr b="0" lang="en-US" sz="20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u) </a:t>
            </a:r>
            <a:r>
              <a:rPr b="0" lang="es-PE" sz="2000" spc="-1" strike="noStrike">
                <a:solidFill>
                  <a:srgbClr val="000000"/>
                </a:solidFill>
                <a:latin typeface="Arial"/>
              </a:rPr>
              <a:t>	</a:t>
            </a:r>
            <a:r>
              <a:rPr b="0" lang="es-PE" sz="2000" spc="-1" strike="noStrike">
                <a:solidFill>
                  <a:srgbClr val="000000"/>
                </a:solidFill>
                <a:latin typeface="Arial"/>
              </a:rPr>
              <a:t>Las Notas a los rubros Existencias, Inversiones, Edificios y Estructuras y Activos no Producidos, Vehículos, Maquinarias y Otros y Otras Cuentas del Activo, deberán mostrar en forma paralela el detalle de los saldos correspondientes al ejercicio comparativo, así como su variación; la desvalorización, fluctuación de valores, depreciación, agotamiento y amortización acumulada, según corresponda, se presentará en la parte inferior de la nota con signo negativo, mostrando finalmente el saldo neto de cada rubro concordante con el Balance General, los sub totales presentados deben conciliar con sus respectivos Anexos a los Estados Financieros. </a:t>
            </a:r>
            <a:endParaRPr b="0" lang="en-US" sz="2000" spc="-1" strike="noStrike">
              <a:solidFill>
                <a:srgbClr val="000000"/>
              </a:solidFill>
              <a:latin typeface="Arial"/>
            </a:endParaRPr>
          </a:p>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0" name="3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C445-C0EC-4E92-A334-2D3CC2360B4C}"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574200" y="0"/>
            <a:ext cx="8001000" cy="571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Arial"/>
              </a:rPr>
              <a:t>13.  ELABORACIÓN Y PRESENTACIÓN DE LOS ESTADOS FINANCIEROS</a:t>
            </a:r>
            <a:endParaRPr b="1" lang="en-US" sz="1600" spc="-1" strike="noStrike">
              <a:solidFill>
                <a:srgbClr val="000000"/>
              </a:solidFill>
              <a:latin typeface="Arial"/>
            </a:endParaRPr>
          </a:p>
        </p:txBody>
      </p:sp>
      <p:sp>
        <p:nvSpPr>
          <p:cNvPr id="602" name=""/>
          <p:cNvSpPr txBox="1"/>
          <p:nvPr/>
        </p:nvSpPr>
        <p:spPr>
          <a:xfrm>
            <a:off x="566280" y="714240"/>
            <a:ext cx="8001000" cy="6143760"/>
          </a:xfrm>
          <a:prstGeom prst="rect">
            <a:avLst/>
          </a:prstGeom>
          <a:noFill/>
          <a:ln w="0">
            <a:noFill/>
          </a:ln>
        </p:spPr>
        <p:txBody>
          <a:bodyPr anchor="t">
            <a:normAutofit/>
          </a:bodyPr>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v) Las entidades deberán informar los Edificios y Estructuras construidos para terceros, pendientes de transferir, indicando la fecha de conclusión de la construcción de la obra y la entidad a la cual pertenecen. Asimismo, las entidades informarán los activos fijos que están usando y no los tienen reconocidos contablemente.  </a:t>
            </a:r>
            <a:endParaRPr b="0" lang="en-US" sz="20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w) </a:t>
            </a:r>
            <a:r>
              <a:rPr b="0" lang="es-PE" sz="2000" spc="-1" strike="noStrike">
                <a:solidFill>
                  <a:srgbClr val="000000"/>
                </a:solidFill>
                <a:latin typeface="Arial"/>
              </a:rPr>
              <a:t>	</a:t>
            </a:r>
            <a:r>
              <a:rPr b="0" lang="es-PE" sz="2000" spc="-1" strike="noStrike">
                <a:solidFill>
                  <a:srgbClr val="000000"/>
                </a:solidFill>
                <a:latin typeface="Arial"/>
              </a:rPr>
              <a:t>Las entidades del Sector Público que presenten saldo en las cuentas Edificios Residenciales Concluidos por Reclasificar, Edificios No Residenciales Concluidos por Reclasificar y Estructuras Concluidos por Reclasificar que provengan de ejercicios  anteriores deberán informar el grado de avance de las acciones administrativas efectuadas durante el ejercicio para su liquidación, que permitirá finalmente realizar el traslado de la construcción a sus cuentas definitivas. </a:t>
            </a:r>
            <a:endParaRPr b="0" lang="en-US" sz="2000" spc="-1" strike="noStrike">
              <a:solidFill>
                <a:srgbClr val="000000"/>
              </a:solidFill>
              <a:latin typeface="Arial"/>
            </a:endParaRPr>
          </a:p>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3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1791-F7F6-40ED-BC86-953D7B22CB69}"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20:11:30Z</dcterms:created>
  <dc:creator>Aldo Vallejo</dc:creator>
  <dc:description/>
  <dc:language>en-US</dc:language>
  <cp:lastModifiedBy>mef</cp:lastModifiedBy>
  <cp:lastPrinted>2004-07-15T16:43:21Z</cp:lastPrinted>
  <dcterms:modified xsi:type="dcterms:W3CDTF">2011-02-22T20:47:04Z</dcterms:modified>
  <cp:revision>874</cp:revision>
  <dc:subject/>
  <dc:title>Presentación de PowerPoint</dc:title>
</cp:coreProperties>
</file>